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6A4-FA7C-496B-9859-2A2BF3D4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2FC-1888-4F1F-A8E7-1F18E807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B4A-C595-4B00-9B05-05C3ABDE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653-E99E-45BB-8CCE-AEBD1FBF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74BB-8C23-4EB1-8DB5-6BA92BFB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0CC0-8AA6-41DD-80F1-457E61D2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EA63-6176-4549-BA83-F1A4FCED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2906-1F77-46EC-B59A-FE50BD43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6D60-47DC-4553-9ABB-E7F9070A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3A33-BCB0-4C63-961C-84920389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C8A1-5CCC-45D1-8842-49438B63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CB6-2928-445D-A255-55D6715D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489F-9234-4319-8D1B-CA055F7D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76D2-127D-4C67-8384-3A80A547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8A81-A599-4087-A334-2C4E6CCD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7FFE-C178-4779-B20A-B4E5B481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B1EF-C8AE-4EBD-8121-B20D0951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CA54-57D7-4B35-8869-075B40DB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F5A-4AA6-4FF1-BC9C-F26C0B2D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B46-614A-4E9A-BC29-FC7EACAB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E51-EB50-4C41-BBB3-FCD9E8C2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509-08D8-4E79-A099-98261B94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068-79C4-48C3-8958-CDDBF638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CBE-7C00-471A-B1BF-84C1C71F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6246-B5BC-439F-AAE2-3CACB4861C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CADC-1BE7-4E13-B3CE-72DDB1DAB5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hinguardian.files.wordpress.com/2010/02/german-flag.png&amp;imgrefurl=http://theshinguardian.com/%3Fattachment_id%3D9473&amp;usg=__g685WHzYVteaS2i7Td57o96nLrI=&amp;h=1536&amp;w=2560&amp;sz=19&amp;hl=en&amp;start=7&amp;zoom=1&amp;tbnid=KlisiefQfUMdQM:&amp;tbnh=90&amp;tbnw=150&amp;ei=erymTvOdO8bEgQfD3fko&amp;prev=/images%3Fq%3Dgerman%2Bflag%2Bpictures%26um%3D1%26hl%3Den%26safe%3Dactive%26rlz%3D1T4ADSA_enUS434US446%26tbm%3Disch&amp;um=1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erman.about.com/library/blbraeuche_martin.htm" TargetMode="External"/><Relationship Id="rId2" Type="http://schemas.openxmlformats.org/officeDocument/2006/relationships/hyperlink" Target="http://www.bellaonline.com/articles/art47400.asp" TargetMode="External"/><Relationship Id="rId3" Type="http://schemas.openxmlformats.org/officeDocument/2006/relationships/hyperlink" Target="http://www.kikisweb.de/spezial/stmartin/geschichten/legende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German Customs and Tradition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y of St. Martinst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Brian Bec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german.about.com/library/blbraeuche_martin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bellaonline.com/articles/art47400.as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kikisweb.de/spezial/stmartin/geschichten/legende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s place on November 11 (Veteran’s Day in Americ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ination of Halloween and Thanksgi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ebrates the feast of Saint Mart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rily a Catholic trad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Laternenumzug mit Reiter am St. Martinstag"/>
          <p:cNvPicPr/>
          <p:nvPr/>
        </p:nvPicPr>
        <p:blipFill>
          <a:blip r:embed="rId1"/>
          <a:stretch/>
        </p:blipFill>
        <p:spPr>
          <a:xfrm>
            <a:off x="4648320" y="1600200"/>
            <a:ext cx="4057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verview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itionally, St. Martinstag  was celebrated as the end of the harvest season (i.e. Thanksgiving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a time when the poor could enjoy some of the fine foods from the local lo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. Marti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320" y="1218960"/>
            <a:ext cx="3124440" cy="2552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90720" y="3924360"/>
            <a:ext cx="3200400" cy="2628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oldier in the Roman army, he is most known for tearing his cloak (die Mantelteilung) in two and sharing it with a beggar in Ami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ined the title of Bishop of Tours, and is considered the most revered of European sai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066680" y="1219320"/>
            <a:ext cx="312444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90720" y="3962520"/>
            <a:ext cx="3200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uftig Martin Luth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pean Protestants celebrate the christening of protestant reformer Martin Luther on November 11, instead of the Catholic St. Martinsta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akes it his Tauftag, or baptismal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71600" y="1600200"/>
            <a:ext cx="1981080" cy="209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638680" y="1600200"/>
            <a:ext cx="2133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Celebrate St. Martinsta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is primarily celebrated by a procession of children with candle-lit lanterns following ‘St. Martin’ on his white hor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hildren sing songs about the life of St. Martin, a popular one is as follow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Unicode MS"/>
              </a:rPr>
              <a:t>Ich geh' mit meiner Laterne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 Unicode MS"/>
              </a:rPr>
              <a:t>Und meine Laterne mit mir. 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 Unicode MS"/>
              </a:rPr>
              <a:t>I'm walking with my lantern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 Unicode MS"/>
              </a:rPr>
              <a:t>and my latern walks with me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91320" y="3200400"/>
            <a:ext cx="2950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to Celebrate St. Martinstag (Cont.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ediately following the procession is a feast of roast go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former times, “Martini” was the official start of the winter season, but it is now the start of the winter shopping sea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1981080" cy="2438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34120" y="4419720"/>
            <a:ext cx="2305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: What did St. Martin share with the freezing begga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: Who do the Protestants celebrate on Nov. 11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: His clo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: Martin Lu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3:43:08Z</dcterms:created>
  <dc:creator>SCSadmin</dc:creator>
  <dc:description/>
  <dc:language>en-US</dc:language>
  <cp:lastModifiedBy>SCSadmin</cp:lastModifiedBy>
  <dcterms:modified xsi:type="dcterms:W3CDTF">2011-11-09T14:22:30Z</dcterms:modified>
  <cp:revision>6</cp:revision>
  <dc:subject/>
  <dc:title>German Customs and Traditions</dc:title>
</cp:coreProperties>
</file>